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557-894C-4E44-8216-CB471A86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4E9-4461-4024-A1B6-E67D8875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BBE-709A-4A92-AB8A-02E0CF49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178-B4B5-44F8-A0F5-A4A1E71E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9EC-A870-4016-98F7-A8D7E660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F0A-DAD3-4528-8BF5-24C2ED52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C13-0504-4520-B351-C9F5B8D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600-13E3-412F-8593-6272DEDB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A8D-48FD-47A3-BAFB-C1A83816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6BE-77BA-4DB9-9717-8B3BA76C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87B-D5A6-4BC9-99DA-CA87467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35A-6CE3-4329-A6E0-6059B46A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5BCB-10A6-4A9C-9728-1E4525FA99B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stscan.eu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2476440"/>
            <a:ext cx="8715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Pest Control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geautomatiseer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7512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alba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ell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beschik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286240" y="214200"/>
            <a:ext cx="335772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143680" y="1319040"/>
            <a:ext cx="2733480" cy="433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285920" y="1319040"/>
            <a:ext cx="2743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1427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3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ontrolepunten scann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e ing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n lokdo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waarde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ventueel:) weringsadvies opgev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keuze uit standaardteksten, of zelf inty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82744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57160" y="207180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4: Tekenen = verzend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57680" y="1071720"/>
            <a:ext cx="27907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680" y="207180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5: Gegevens zijn online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19000" y="743040"/>
            <a:ext cx="75042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64304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eature 1: klantbehe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23385" t="35763" r="5910" b="7659"/>
          <a:stretch/>
        </p:blipFill>
        <p:spPr>
          <a:xfrm>
            <a:off x="285840" y="928800"/>
            <a:ext cx="8454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Betaalbaar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 kleine 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elgrote spe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 ongediertebestrijdingsmar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4240" y="207144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eature 2: Materiaalverbrui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2752920" cy="433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22280" y="4959360"/>
            <a:ext cx="7372440" cy="1447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571920" y="714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Ingeven op lo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6072120" y="47149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lezen via webs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2357280"/>
            <a:ext cx="81439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eature 3: Documentbehe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85920" y="3644640"/>
            <a:ext cx="640080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 plaatst documenten online met een paar klikken op de mu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eiligheidsblad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formatiesheet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ac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ichtbaar voor alle kla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voor één specifieke kl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143080"/>
            <a:ext cx="7858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el features op locati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1"/>
          <p:cNvSpPr/>
          <p:nvPr/>
        </p:nvSpPr>
        <p:spPr>
          <a:xfrm>
            <a:off x="2928960" y="12142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beveiligde toe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857680" y="571500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extra waarnemingen toevo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3786120" y="314316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uw controlepunt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305080" cy="3057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2305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572160" y="1643040"/>
            <a:ext cx="2276640" cy="30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3429000" y="4429080"/>
            <a:ext cx="228600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TextBox 10"/>
          <p:cNvSpPr/>
          <p:nvPr/>
        </p:nvSpPr>
        <p:spPr>
          <a:xfrm>
            <a:off x="28576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opmerking toevo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4143240" y="28576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zicht activiteit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3786120" y="3429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sche updates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214200" y="57862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zicht waarneminge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2295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tegrondbeh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enmaal inscannen (bmp, jpg, tif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kdozen erop sle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 nog eens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tegrond ook op PDA digitaal te bekij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985680" y="357120"/>
            <a:ext cx="717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ringsadvie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e voeren op P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ezen uit standaardt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 beheren vanuit kant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klant logt in en past zelf aanbevelingen to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Sneller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adloze commun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code sc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el printen van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87360" y="189000"/>
            <a:ext cx="8353440" cy="64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nd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chillende soorten grafie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en opname per dag, maand, kwartaal of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chtbaar voor k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 bewaren als 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378320" y="3429000"/>
            <a:ext cx="45957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914400" y="404640"/>
            <a:ext cx="73152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ig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raadbeh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PS localisatie met Google M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ichtenb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ppeling met andere pakk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gen huisstij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zetten van uw gegevens uit een ander syst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eer info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78612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m onze folder me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estscan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Direct beschikbaar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olledig webbased office- en klantapplic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scande gegevens direct op web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Zichtbaar voor k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werkbaar vanuit kanto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149976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Wat doet PestSca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0040" y="3143160"/>
            <a:ext cx="821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e met mobile devices (smartphone/P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lezen controlepunten met Barcode Sca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draadloos verzenden gegev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bonnen aanmaken via webappl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gebreide rapportage controlegegev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Prijsmod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enmalige lage instapkos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andelijks licentiebedr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DA en printer op leaseba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en verborgen kos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7160" y="26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1: Werkbon mak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85820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3" descr="Naamloos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8800" y="24289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tap 2: Werkbon openen op P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4:26:06Z</dcterms:created>
  <dc:creator>PC Kantoor</dc:creator>
  <dc:description/>
  <dc:language>en-US</dc:language>
  <cp:lastModifiedBy>Jan</cp:lastModifiedBy>
  <dcterms:modified xsi:type="dcterms:W3CDTF">2010-08-27T13:47:48Z</dcterms:modified>
  <cp:revision>12</cp:revision>
  <dc:subject/>
  <dc:title>Dia 1</dc:title>
</cp:coreProperties>
</file>